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74A3-6ACF-400D-8FC0-A435668F28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ACF-75C8-40AF-9306-36CF979E78B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질수록 포함시켜야 할 기준이 무척 많아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떤 기준은 매우 주관적인 것으로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B8DE-EAD8-4435-A13E-29DD07D7C23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한 기준들을 포함시키는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객관적으로 빠른 것을 객관적으로 느린 것보다 왜 좋은 것으로 평가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2F2B-8777-4018-9A05-A2F0ED5ED3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CECA-3C36-4887-A749-966A4D6801B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7ECB-7991-41DA-9955-8A3FBF6FFCB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좋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의 평가 항목들 불완전하고 서로 상충됨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과 공간을 초월하여 인간이 단일한 요구를 가지고 있다는 잘못된 전제에서 출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간들이 서로 동일한 목록의 요구를 하는 것처럼 보일 때조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각 목록마다 부여하는 가중치가 다를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이 단선적으로 진보하고 있다는 사실 자체가 우리의 잘못된 기억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재 우리 주변의 기술 이외의 기술은 보이지 않다보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는 보이는 기술이 발명되기까지의 단선적인 흐름만 상상하게 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머지는 무시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2F7E-8B66-49E5-A33D-83E0FD7C4EE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6C8-0450-4A7A-91C1-54C603F658D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필요 개념을 인정하더라도 그것은 시공간을 초월한 인류 공통의 필요가 아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상 유지의 생존을 위해서는 복잡한 기술이 필요하지 않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나은 삶을 위한 필요는 사살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욕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가까운 것으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항목들은 시대와 장소에 따라 끊임없이 변화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때로는 그냥 만들 수 있기 때문에 만들기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종의 놀이처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9DDE-168B-472D-8E8B-85DA17B3268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BD65-6EBE-49E2-8C9A-A48545E8665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264-0F9F-4DFF-8820-D3FD049144E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1A45-B6A0-41D1-83F8-0853D783F3A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B5D7-C43B-4302-BB9A-C836924A6B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인간의 시신경은 상이 맺히는 망막 위에서 출발할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음에 그렇게 시작했기 때문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조적 한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8B22-E798-40A6-AA23-B5591784F8F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F5DC-CB85-4866-8FC9-2B567BAF61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92C-BD70-4805-9679-4D9A7A70331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소아메리카인들은 인형에 바퀴를 달 정도로 바퀴 구동의 원리를 알고 있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 물품 수송용으로는 사용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들의 지역이 바퀴 달린 탈것에 부적합했기 때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근동지역과 북아프리카에서는 낙타가 바퀴를 대체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기술의 역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No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낙타가 바퀴보다 훨씬 이점이 많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퀴가 그 엄청난 중요성을 인정받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말 이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구 유럽 사회의 맥락 덕분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1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이래 도로가 정비된 서구 유럽에서 바퀴 중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8CED-B83F-4BBF-A271-05DF680374B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638-813E-4D0F-9204-8F56C352254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물의 진화는 비목적적인 과정이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의 진화는 인간의 목적의식적인 활동이 개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물은 스스로 재생산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공물은 인간에 의해 재생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물의 변이는 부모로부터 무작위적으로 재생산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공물의 변이는 인간이 목적의식적으로 변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제작하여 생산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새로운 인공물의 발명 과정에는 무작위적으로 보이는 상상력뿐 아니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경제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화적 요구도 개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점은 다윈주의와 차별화되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B303-DD3B-4E47-8A9A-71B4DBB6663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식은 부모의 교잡 및 돌연변이의 결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명이라는 것이 목적하는 바가 있다고 뚝딱 나오는 것이 아니라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인공물은 대부분 기존 인공물들의 작은 변형 및 조합의 누적 결과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기술 개발은 기존 기술의 조건에 묶여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때로 새로운 기술은 특별한 요구나 목적의식 없이도 기존 기술로부터 보이게 된 가능성 그 자체만으로 발명되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827B-4DBD-4161-A73B-3D1554B162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분화는 다양한 환경에 따른 자연선택의 결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은 단선적으로 진보하는 것이 아니라 가지치기 방식으로 진화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다양한 맥락에 놓인 기술이 받는 다양한 종류의 선택압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가 오늘날 직관적으로 떠올릴 수 있는 기술의 선택 기준보다 훨씬 다양한 기준이 있을 수 있다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우리가 흔히 동질적이라고 보는 집단이 서로 다른 이해관계를 가질 수 있다는 점에 유의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이 인간의 요구나 욕망을 실현하는 방향으로 변화해왔다는 것은 그리 틀린 말은 아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그 요구나 욕망은 우리가 상상할 수 있는 것보다 훨씬 다양하고 복잡하며 자주 그들끼리 대립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그 요구들을 조정하는 방법 역시 매우 다양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우리는 기술의 변화 과정을 자세히 들여다 볼 때마다 직관과 배치되는 복잡한 과정을 깨닫게 되면서 깜짝깜짝 놀라게 되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8D3-CAEB-46C2-B753-AA65CE99D32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4C5-6E05-4210-BF08-E94F940C42A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FEA1-5BD5-4B27-9E05-8F6345BA1A4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9682-7729-4742-8E90-497E223D524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12B-859B-4769-8E52-EAD924F937C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2BDA-3585-466E-B61E-9ABFD2DB00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5F7D-C959-42C2-9740-1935344AF17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264-4E1E-459B-95EC-029593FA7AB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4D5-9DDB-490F-B27A-7688B034D3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CA3-1850-4CD0-A6EC-FC54B7B954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BEA-D869-4931-B4E0-758C52CB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367-1535-45C1-AFED-C1E72DB2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C7C-FCC4-43B5-8E24-65D6EBC6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496-CF06-47DE-80A9-9FC498D9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153-AD41-421B-94A7-0DFF68D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8BD-BEEB-4A0E-965F-6E4434B8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1F4-C083-4EC8-8EBD-7426BFC8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0EE-B97B-4BF6-A5B7-D6DEDEF7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2AA-977A-4379-B3BC-F343006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B77-2BFA-400D-B352-BDF0B30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B80-383A-4FFA-92BE-083DBD3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C01-946A-4540-81D4-BC7ABB0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16F-830B-4672-9638-6FF87EC8ECCD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기술 진화와 진보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어떤 기준을 포함시켜야 하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안전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작용이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름다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내구성 등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왜 그러한 기준이 포함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국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인간에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좋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즉 인간의 선호 가치 반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간에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기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인간의 필요와 소망을 실현해주는 기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은 인간의 필요를 점점 더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잘 실현해주는 방향으로 발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0730030.jpg"/>
          <p:cNvPicPr/>
          <p:nvPr/>
        </p:nvPicPr>
        <p:blipFill>
          <a:blip r:embed="rId1"/>
          <a:stretch/>
        </p:blipFill>
        <p:spPr>
          <a:xfrm>
            <a:off x="324000" y="404640"/>
            <a:ext cx="8526240" cy="5156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5516280"/>
            <a:ext cx="6994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기술의 진보가 우리에게 해준 일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비판적 검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더 빠른 속도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더 높은 효율성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더 강력한 힘 등은 시대와 장소를 초월한 인간 공통의 요구인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인간의 요구들이 서로 상충하진 않는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진보는 행복을 가져다 주는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인간의 요구를 실현하는 기술의 변화가 일정한 방향성을 가질까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인간의 요구가 기술 진보의 원동력인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진화론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바살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은 단선적으로 진보하기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기술로부터의 다양한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변이 생산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 다양한 정치사회문화적 맥락에서의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선택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분기적으로 진화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기술은 잉여의 산물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은 필요 이상으로 무척 다양하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다양한 기술은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생존을 위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필요의 산물이라기보다 욕망과 상상력의 산물이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183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단선적 진보관 비판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변화과정은 단선적인 진보가 아니라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분기적인 진화를 통해 더 적절히 묘사되며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그 진화의 경로를 보여주는 계통수를 그릴 수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liftlab.com/think/imgblog/pittrivers.jpeg"/>
          <p:cNvPicPr/>
          <p:nvPr/>
        </p:nvPicPr>
        <p:blipFill>
          <a:blip r:embed="rId2"/>
          <a:stretch/>
        </p:blipFill>
        <p:spPr>
          <a:xfrm>
            <a:off x="971640" y="1197000"/>
            <a:ext cx="734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deeperwonderment.files.wordpress.com/2011/02/dynatac-evolution.png"/>
          <p:cNvPicPr/>
          <p:nvPr/>
        </p:nvPicPr>
        <p:blipFill>
          <a:blip r:embed="rId2"/>
          <a:stretch/>
        </p:blipFill>
        <p:spPr>
          <a:xfrm>
            <a:off x="755640" y="333360"/>
            <a:ext cx="7632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2’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기술 변화의 누적성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기술은 천재적인 개인의 발명이라기보다 기존 기술들의 작은 변형 또는 조합의 누적적 결과이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혁신은 기존 기술이 제공하는 제약과 가능성에 얽매여 있음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요구가 있다고 뚝딱 만들어지는 것이 아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과학 이론이 있다고 뚝딱 만들어지는 것도 아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4.bp.blogspot.com/_x4_N2JYJj3c/S8Bb512O_-I/AAAAAAAAAi0/6SdB2Xv1S5s/s1600/clips_classification.jpg"/>
          <p:cNvPicPr/>
          <p:nvPr/>
        </p:nvPicPr>
        <p:blipFill>
          <a:blip r:embed="rId2"/>
          <a:stretch/>
        </p:blipFill>
        <p:spPr>
          <a:xfrm>
            <a:off x="1403280" y="-54000"/>
            <a:ext cx="57610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선택압으로서의 사회적 맥락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기술 중 일부가 주어진 사회적 맥락 하에서 선택된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에 대한 선택압에는 생존이나 경제적 요구 외에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사회문화적 태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가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적 유행의 추구 등의 요인도 포함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대와 문화에 따라 선택 기준 다름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9640" y="1400040"/>
            <a:ext cx="4392720" cy="458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314000" y="609300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아스텍 인이 만든 바퀴달린 점토 인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메리카의 아스텍인들은 왜 바퀴기술을 발전시키지 않았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진보 개념 재검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은 그것이 발명되고 사용되는 문화 속에서 평가되어야 한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공간을 초월한 기술 진보의 평가 기준은 없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진보 개념을 유지하려면 그 의미를 바꾸어야 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생물 진화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 진화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 변화에 대한 생물 진화 유비는 적절한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진화론이 주는 통찰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진화론적 사고는 새로운 기술 등장의 제약조건이자 가능성을 제공하는 기존 기술들에 주목하게 해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진화론이 주는 통찰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진화론적 사고는 특정한 기술을 선택하거나 선택하지 않은 사회의 구체적 맥락에 주목하도록 해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 진화론의 약점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너무 당연한 주장 아닌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새로운 기술을 추동하거나 선택하는 요인에 대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때그때 다르다는 주장 이상이 없지 않은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이 진보하지 않았다는 주장은 직관과 배치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바살라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「진화와 진보」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『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진화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』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중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바살라는 기술의 진보를 부정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바살라는 인류의 진보와 기술의 진보의 관계를 어떻게 설정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빠른 교통수단이 필요치 않은 사회에서 빠른 교통수단이 등장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만약 등장했다면 그것을 기술의 진보로 간주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필요 이상으로 얇은 핸드폰을 기술의 진보로 간주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당신은 기술이 진보한다고 생각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5" name="_x68634584" descr="EMB00000e8481f8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9" name="_x68621976" descr="EMB00000e8481f9"/>
          <p:cNvPicPr/>
          <p:nvPr/>
        </p:nvPicPr>
        <p:blipFill>
          <a:blip r:embed="rId2"/>
          <a:stretch/>
        </p:blipFill>
        <p:spPr>
          <a:xfrm>
            <a:off x="611280" y="138240"/>
            <a:ext cx="777708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은 진보한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은 어느 사회에서나 더 좋은 방향으로 발전해 왔으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앞으로도 그럴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차는 점점 빨라지고 있으므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운송기술은 진보하고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단위면적당 농부 한 사람 당 농업생산량은 점점 증가하고 있으므로 농업 기술은 진보하고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PU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의 처리속도는 점점 빨라지고 있으므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컴퓨터 기술은 진보하고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852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이 더 빠른 속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높은 효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강력한 힘 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점점 좋은 방향으로 개선되어 간다는 사람들의 직관을 반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기술이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으로 좋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효율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빠르기 등 객관적 기준에 의해 좋은 기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01:31Z</dcterms:created>
  <dc:creator>zolaist</dc:creator>
  <dc:description/>
  <dc:language>en-US</dc:language>
  <cp:lastModifiedBy>zolaist</cp:lastModifiedBy>
  <dcterms:modified xsi:type="dcterms:W3CDTF">2011-05-25T11:03:00Z</dcterms:modified>
  <cp:revision>4</cp:revision>
  <dc:subject/>
  <dc:title>기술 진화와 진보</dc:title>
</cp:coreProperties>
</file>